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9EE7-ABEE-48B3-83CA-1257CFE5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6935-877B-4DA3-8437-45DED04A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5ED5-7303-4463-942F-BE308B8C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091E-65A7-477C-ACE5-8BCBC546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303F-D711-4B68-9E93-AE12823E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850D-9B2E-4D51-8160-F4312B5A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5075-12FC-40FC-9B22-B180C92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7FE6-85A2-4ABE-9A47-844BEB77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E185-8884-4838-A028-98C8F19C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CFA6-C181-4791-B89E-13CBF14F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8917-2D11-4B2B-A715-E833B1DA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5512-79E0-4D4C-ACCD-C7BDE89A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7C10-A4B2-4492-B197-047AF19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E158-3735-40C0-88E6-D506E6FE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37B2-DD6E-4D9F-A447-6405B204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76BC-86B9-4DA6-9E9B-C3FA7A8C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934C-37D2-4602-AB6E-B8FFE436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806F-205C-4B37-9652-2F4A7400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913C-5FE8-455C-9204-FBFF9498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F37A-18C7-4849-AA18-BF6E8888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A389-04D2-42A2-B47A-7238B0FF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F373-1156-4804-9BB1-0003DCAD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A60E-4DCD-4066-9329-226B42AE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9208-ECD8-4B3A-89CA-BF01564C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B62C-CDCB-4B86-9FF5-F96A5DE130C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6B65-70D9-490E-925D-8948F8DB832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40040"/>
            <a:ext cx="11279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3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66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ата Библия твор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арактер, сила, мощ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ея плам свещен гор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зпръсва всяка нощ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отвръщаме лиц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Божията вест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не обръщаме сърц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този свят злочес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100764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крива тя свещен зако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братство, мир, любов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канва тя души в покло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ед подвига Христов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грява с пролетни лъч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тейския ни друм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нея Божи глас еч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всек блуждаещ у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943920" y="573840"/>
            <a:ext cx="73450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яга е на старостта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сен платноход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яен фар на младост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вечния живот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туй да пръснем всякъд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ата Библия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всякъде да се чет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аз книга Божи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23:15Z</dcterms:modified>
  <cp:revision>13</cp:revision>
  <dc:subject/>
  <dc:title>Slide 1</dc:title>
</cp:coreProperties>
</file>